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40C-9862-42B7-9D6D-97261D87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1D1-2FE0-4800-9AC9-126C80A5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BD1-1640-4BE3-9F69-9A988B6A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A45-826A-4CB9-80CE-D896A931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A06-B088-4F72-94A7-C11DB330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102-C9A9-4509-AD0F-0BB968E2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480-4DCC-4FFD-8DE6-BA02B01E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D76-3100-452E-A2DF-4131E757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6CA-3004-4FC7-9BEE-EB91E99F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074-9242-449B-8B71-25E065E7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D5A3-186E-47AD-B30C-915E6C51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96B-B141-4087-AEA6-9E5F9C64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0CAE-AAC8-49A8-862B-75A9CF4055F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392720" cy="3829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24360" y="4076640"/>
            <a:ext cx="129564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전용라벨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B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상품내역서별도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프린터 설정 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960720" cy="381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4360" y="5516640"/>
            <a:ext cx="773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▷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윈도우 시작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설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프린터 및 팩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전용프린터 선택 후 오른쪽 마우스 클릭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속성에서 “인쇄기본설정”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132000" y="4292280"/>
            <a:ext cx="251964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3933720"/>
            <a:ext cx="719280" cy="9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64000" y="549360"/>
            <a:ext cx="3189600" cy="4103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4869000"/>
            <a:ext cx="77342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▷ </a:t>
            </a:r>
            <a:r>
              <a:rPr b="1" lang="ko-KR" sz="1600" spc="-1" strike="noStrike">
                <a:solidFill>
                  <a:srgbClr val="ff0000"/>
                </a:solidFill>
                <a:latin typeface="굴림"/>
              </a:rPr>
              <a:t>새 글꼴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버튼 클릭하여 이름은 ‘</a:t>
            </a:r>
            <a:r>
              <a:rPr b="1" lang="ko-KR" sz="1600" spc="-1" strike="noStrike">
                <a:solidFill>
                  <a:srgbClr val="ff0000"/>
                </a:solidFill>
                <a:latin typeface="굴림"/>
              </a:rPr>
              <a:t>labelb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’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필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로 입력하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ff0000"/>
                </a:solidFill>
                <a:latin typeface="굴림"/>
              </a:rPr>
              <a:t>너비</a:t>
            </a:r>
            <a:r>
              <a:rPr b="1" lang="ko-KR" sz="1600" spc="-1" strike="noStrike">
                <a:solidFill>
                  <a:srgbClr val="ff0000"/>
                </a:solidFill>
                <a:latin typeface="굴림"/>
              </a:rPr>
              <a:t>: 107.1, </a:t>
            </a:r>
            <a:r>
              <a:rPr b="1" lang="ko-KR" sz="1600" spc="-1" strike="noStrike">
                <a:solidFill>
                  <a:srgbClr val="ff0000"/>
                </a:solidFill>
                <a:latin typeface="굴림"/>
              </a:rPr>
              <a:t>높이</a:t>
            </a:r>
            <a:r>
              <a:rPr b="1" lang="ko-KR" sz="1600" spc="-1" strike="noStrike">
                <a:solidFill>
                  <a:srgbClr val="ff0000"/>
                </a:solidFill>
                <a:latin typeface="굴림"/>
              </a:rPr>
              <a:t>:  271.0</a:t>
            </a:r>
            <a:r>
              <a:rPr b="1" lang="ko-KR" sz="1600" spc="-1" strike="noStrike">
                <a:solidFill>
                  <a:srgbClr val="ff0000"/>
                </a:solidFill>
                <a:latin typeface="굴림"/>
              </a:rPr>
              <a:t>으로 지정하고</a:t>
            </a:r>
            <a:r>
              <a:rPr b="1" lang="ko-KR" sz="1600" spc="-1" strike="noStrike">
                <a:solidFill>
                  <a:srgbClr val="ff0000"/>
                </a:solidFill>
                <a:latin typeface="굴림"/>
              </a:rPr>
              <a:t>,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본프린터로 설정되지 않았을 경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용라벨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를 인쇄 시 설정하여 사용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▷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라벨기표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프린터에 삽입 후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zebra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프린터의 경우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paus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feed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반복하여 용지를 맞춘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68360" y="549360"/>
            <a:ext cx="4319640" cy="4105080"/>
            <a:chOff x="468360" y="549360"/>
            <a:chExt cx="4319640" cy="410508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68360" y="549360"/>
              <a:ext cx="431964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023840" y="1421640"/>
              <a:ext cx="1047240" cy="335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124000" y="1773360"/>
            <a:ext cx="4248360" cy="129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2781360"/>
            <a:ext cx="505080" cy="431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2. ePOST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접수 화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71640" y="765000"/>
            <a:ext cx="7559640" cy="4619880"/>
            <a:chOff x="971640" y="765000"/>
            <a:chExt cx="7559640" cy="46198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971640" y="765000"/>
              <a:ext cx="7559640" cy="46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093080" y="2133720"/>
              <a:ext cx="720720" cy="360360"/>
            </a:xfrm>
            <a:prstGeom prst="rect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870120" y="5589720"/>
            <a:ext cx="77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▷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인쇄할 자료 선택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=&gt;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라벨인쇄 버튼 클릭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692280"/>
            <a:ext cx="7775640" cy="47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인쇄팝업 설정 화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6116760"/>
            <a:ext cx="773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▷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ePOST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택배메뉴 중 </a:t>
            </a:r>
            <a:r>
              <a:rPr b="1" lang="en-US" sz="1600" spc="-1" strike="noStrike">
                <a:solidFill>
                  <a:srgbClr val="ff0000"/>
                </a:solidFill>
                <a:latin typeface="굴림"/>
              </a:rPr>
              <a:t>“환경설정”</a:t>
            </a:r>
            <a:r>
              <a:rPr b="1" lang="en-US" sz="1600" spc="-1" strike="noStrike">
                <a:solidFill>
                  <a:srgbClr val="ff0000"/>
                </a:solidFill>
                <a:latin typeface="굴림"/>
              </a:rPr>
              <a:t>- “</a:t>
            </a:r>
            <a:r>
              <a:rPr b="1" lang="zh-CN" sz="1600" spc="-1" strike="noStrike">
                <a:solidFill>
                  <a:srgbClr val="ff0000"/>
                </a:solidFill>
                <a:latin typeface="굴림"/>
              </a:rPr>
              <a:t>라벨인쇄옵션”에서 저장하여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이용 가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10575" r="0" b="0"/>
          <a:stretch/>
        </p:blipFill>
        <p:spPr>
          <a:xfrm>
            <a:off x="1692360" y="907920"/>
            <a:ext cx="5743440" cy="4875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03640" y="1484280"/>
            <a:ext cx="1944720" cy="43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라벨기표지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출력 화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3789360"/>
            <a:ext cx="287280" cy="3682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24000" y="1628640"/>
            <a:ext cx="8495640" cy="3816360"/>
            <a:chOff x="324000" y="1628640"/>
            <a:chExt cx="8495640" cy="381636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394560" y="1628640"/>
              <a:ext cx="8425080" cy="37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24000" y="1628640"/>
              <a:ext cx="8424720" cy="381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2"/>
          <a:srcRect l="79130" t="34704" r="15547" b="62357"/>
          <a:stretch/>
        </p:blipFill>
        <p:spPr>
          <a:xfrm>
            <a:off x="7885080" y="2060640"/>
            <a:ext cx="649440" cy="287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67640" y="2276640"/>
            <a:ext cx="865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7812000" y="2276640"/>
            <a:ext cx="720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06:05:47Z</dcterms:created>
  <dc:creator>LYH</dc:creator>
  <dc:description/>
  <dc:language>en-US</dc:language>
  <cp:lastModifiedBy>KJM</cp:lastModifiedBy>
  <dcterms:modified xsi:type="dcterms:W3CDTF">2007-07-04T01:53:53Z</dcterms:modified>
  <cp:revision>27</cp:revision>
  <dc:subject/>
  <dc:title>슬라이드 1</dc:title>
</cp:coreProperties>
</file>