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47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7.wmf" ContentType="image/x-wmf"/>
  <Override PartName="/ppt/media/image12.png" ContentType="image/png"/>
  <Override PartName="/ppt/media/image49.png" ContentType="image/png"/>
  <Override PartName="/ppt/media/image37.png" ContentType="image/png"/>
  <Override PartName="/ppt/media/image38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wmf" ContentType="image/x-wmf"/>
  <Override PartName="/ppt/media/image41.png" ContentType="image/png"/>
  <Override PartName="/ppt/media/image50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13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둥근제목체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가는둥근제목체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둥근제목체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가는둥근제목체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가는둥근제목체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가는둥근제목체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둥근제목체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가는둥근제목체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8031-C572-4504-BD4D-1C392F41A969}" type="slidenum">
              <a:rPr b="0" lang="ko-KR" sz="1200" spc="-1" strike="noStrike">
                <a:solidFill>
                  <a:srgbClr val="000000"/>
                </a:solidFill>
                <a:latin typeface="가는둥근제목체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714F-1FCE-48F5-9672-9B7C6706F32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090D-2A89-4780-ABCA-D90E3F37900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D208-5F93-4E4E-AF75-627A4336CB2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3393-FEE9-4314-ADF9-77FEE4E06F3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625B-85B0-44EE-AD3F-2ADB4F57C0F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221-4714-476C-9162-FA56563D0D2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F824-64B0-4868-A8CA-E58F51C2028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622-B6A8-45C8-BB6C-33F7A75F149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74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382680"/>
            <a:ext cx="308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8268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" name=""/>
          <p:cNvSpPr/>
          <p:nvPr/>
        </p:nvSpPr>
        <p:spPr>
          <a:xfrm>
            <a:off x="6477120" y="38268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" name=""/>
          <p:cNvSpPr/>
          <p:nvPr/>
        </p:nvSpPr>
        <p:spPr>
          <a:xfrm>
            <a:off x="3390840" y="382680"/>
            <a:ext cx="3086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38268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6" name=""/>
          <p:cNvSpPr/>
          <p:nvPr/>
        </p:nvSpPr>
        <p:spPr>
          <a:xfrm>
            <a:off x="6477120" y="38268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" name=""/>
          <p:cNvSpPr/>
          <p:nvPr/>
        </p:nvSpPr>
        <p:spPr>
          <a:xfrm>
            <a:off x="3390840" y="382680"/>
            <a:ext cx="3086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197000" y="128520"/>
            <a:ext cx="987480" cy="368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" descr="master1"/>
          <p:cNvPicPr/>
          <p:nvPr/>
        </p:nvPicPr>
        <p:blipFill>
          <a:blip r:embed="rId4"/>
          <a:stretch/>
        </p:blipFill>
        <p:spPr>
          <a:xfrm>
            <a:off x="0" y="9416880"/>
            <a:ext cx="6858000" cy="48924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3"/>
          <p:cNvSpPr/>
          <p:nvPr/>
        </p:nvSpPr>
        <p:spPr>
          <a:xfrm>
            <a:off x="0" y="9531360"/>
            <a:ext cx="1371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굴림체"/>
              </a:rPr>
              <a:t>000 - </a:t>
            </a:r>
            <a:fld id="{206DEA8A-7E37-4BD4-B81D-E6EC3730E77F}" type="slidenum">
              <a:rPr b="1" lang="en-US" sz="1200" spc="-1" strike="noStrike">
                <a:solidFill>
                  <a:srgbClr val="000000"/>
                </a:solidFill>
                <a:latin typeface="Book Antiqua"/>
                <a:ea typeface="굴림체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1" name=""/>
          <p:cNvSpPr/>
          <p:nvPr/>
        </p:nvSpPr>
        <p:spPr>
          <a:xfrm>
            <a:off x="3473280" y="343080"/>
            <a:ext cx="3413160" cy="428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07 </a:t>
            </a: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년 우편기표지프린터 </a:t>
            </a: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( LP2844-Z ( </a:t>
            </a: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소형 </a:t>
            </a: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)  )      USER GUIDE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36040"/>
            <a:ext cx="6858000" cy="142920"/>
          </a:xfrm>
          <a:prstGeom prst="rect">
            <a:avLst/>
          </a:prstGeom>
          <a:blipFill rotWithShape="0">
            <a:blip r:embed="rId6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3" name="" descr=""/>
          <p:cNvPicPr/>
          <p:nvPr/>
        </p:nvPicPr>
        <p:blipFill>
          <a:blip r:embed="rId7"/>
          <a:srcRect l="0" t="26570" r="0" b="0"/>
          <a:stretch/>
        </p:blipFill>
        <p:spPr>
          <a:xfrm>
            <a:off x="4751280" y="9632880"/>
            <a:ext cx="792360" cy="2732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5270400" y="9631800"/>
            <a:ext cx="180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www.csitcorp.co.kr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가는둥근제목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가는둥근제목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가는둥근제목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가는둥근제목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가는둥근제목체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가는둥근제목체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가는둥근제목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가는둥근제목체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가는둥근제목체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가는둥근제목체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가는둥근제목체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가는둥근제목체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가는둥근제목체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가는둥근제목체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가는둥근제목체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가는둥근제목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가는둥근제목체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가는둥근제목체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가는둥근제목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가는둥근제목체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536040"/>
            <a:ext cx="6858000" cy="142920"/>
          </a:xfrm>
          <a:prstGeom prst="rect">
            <a:avLst/>
          </a:prstGeom>
          <a:blipFill rotWithShape="0">
            <a:blip r:embed="rId1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857160"/>
            <a:ext cx="6858000" cy="8499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866880" y="3600360"/>
            <a:ext cx="512424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돋움"/>
              </a:rPr>
              <a:t>LP 2844 Z USER GU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"/>
          <p:cNvSpPr/>
          <p:nvPr/>
        </p:nvSpPr>
        <p:spPr>
          <a:xfrm>
            <a:off x="260280" y="1363680"/>
            <a:ext cx="607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들어가기 버튼으로 들어오면 왼쪽에 보이는 메뉴에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rinter Drivers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로 들어가 하위 메뉴에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ownload a Drivers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를 선택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385920" y="1987560"/>
            <a:ext cx="5922720" cy="41227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 flipH="1">
            <a:off x="1413000" y="1600200"/>
            <a:ext cx="2736720" cy="2104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907920" y="1833480"/>
            <a:ext cx="144720" cy="2886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76280" y="4719600"/>
            <a:ext cx="1008000" cy="233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1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60280" y="1363680"/>
            <a:ext cx="607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ownload a Drivers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로 들어오면 다음과 같이 </a:t>
            </a:r>
            <a:r>
              <a:rPr b="1" i="1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레이블 프린터 드라이버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가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60280" y="5811840"/>
            <a:ext cx="607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6. </a:t>
            </a:r>
            <a:r>
              <a:rPr b="1" i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레이블 프린터 드라이버 다운로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제목이 나오면 마우스의 스크롤을 아래쪽으로 계속 내리다 보면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프린터 제품군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Zebr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를 다운로드 할 수 있는 화면이 보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Zebr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를 누르고 다운로드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620640" y="6516720"/>
            <a:ext cx="5113440" cy="23367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1932120" y="8477280"/>
            <a:ext cx="393480" cy="253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692280" y="6356520"/>
            <a:ext cx="1224000" cy="2165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97" name="Picture 23" descr=""/>
          <p:cNvPicPr/>
          <p:nvPr/>
        </p:nvPicPr>
        <p:blipFill>
          <a:blip r:embed="rId2"/>
          <a:stretch/>
        </p:blipFill>
        <p:spPr>
          <a:xfrm>
            <a:off x="620640" y="1762200"/>
            <a:ext cx="5068800" cy="3659040"/>
          </a:xfrm>
          <a:prstGeom prst="rect">
            <a:avLst/>
          </a:prstGeom>
          <a:ln w="0">
            <a:noFill/>
          </a:ln>
        </p:spPr>
      </p:pic>
      <p:sp>
        <p:nvSpPr>
          <p:cNvPr id="198" name="Line 24"/>
          <p:cNvSpPr/>
          <p:nvPr/>
        </p:nvSpPr>
        <p:spPr>
          <a:xfrm flipH="1">
            <a:off x="4076640" y="1600200"/>
            <a:ext cx="504720" cy="1012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413000" y="1833480"/>
            <a:ext cx="3384360" cy="2122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255600" y="1422360"/>
            <a:ext cx="607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7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파일 이름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Zebra~~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로 시작하는지 확인 후 저장 버튼을 누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268280" y="1676520"/>
            <a:ext cx="1368720" cy="8586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2997000" y="1676520"/>
            <a:ext cx="215640" cy="1793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2"/>
          <a:stretch/>
        </p:blipFill>
        <p:spPr>
          <a:xfrm>
            <a:off x="1052640" y="5264280"/>
            <a:ext cx="470844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"/>
          <p:cNvSpPr/>
          <p:nvPr/>
        </p:nvSpPr>
        <p:spPr>
          <a:xfrm>
            <a:off x="260280" y="4562640"/>
            <a:ext cx="607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8. 7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에서 저장 버튼을 누르면 다음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다른 이름으로 저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사용자가 저장하고 싶은 곳에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ex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를 저장하여 다운로드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4221000" y="4952880"/>
            <a:ext cx="1152720" cy="2340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2924280" y="4952880"/>
            <a:ext cx="288720" cy="2340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8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341360" y="2301840"/>
            <a:ext cx="4143600" cy="2662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260280" y="1521000"/>
            <a:ext cx="607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9. 8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에서 저장 버튼을 누르면 웹에서 파일을 다운로드하는 진행사항이 나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1" name="Line 8"/>
          <p:cNvSpPr/>
          <p:nvPr/>
        </p:nvSpPr>
        <p:spPr>
          <a:xfrm flipH="1">
            <a:off x="2852640" y="1733400"/>
            <a:ext cx="1440000" cy="1716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1413000" y="3470400"/>
            <a:ext cx="3095640" cy="3124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2997360" y="1754280"/>
            <a:ext cx="1295280" cy="468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341360" y="2222640"/>
            <a:ext cx="1656000" cy="3902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2"/>
          <a:stretch/>
        </p:blipFill>
        <p:spPr>
          <a:xfrm>
            <a:off x="1347840" y="5967360"/>
            <a:ext cx="4143240" cy="2662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3"/>
          <p:cNvSpPr/>
          <p:nvPr/>
        </p:nvSpPr>
        <p:spPr>
          <a:xfrm>
            <a:off x="298440" y="5421240"/>
            <a:ext cx="607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9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완료되면 다음과 같은 화면이 나오고 닫기를 누르면 웹사이트에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exe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다운로드가 완료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7" name="Line 14"/>
          <p:cNvSpPr/>
          <p:nvPr/>
        </p:nvSpPr>
        <p:spPr>
          <a:xfrm>
            <a:off x="2781360" y="5654520"/>
            <a:ext cx="2016000" cy="26528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817560" y="5853240"/>
            <a:ext cx="1297080" cy="623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9" name="Line 16"/>
          <p:cNvSpPr/>
          <p:nvPr/>
        </p:nvSpPr>
        <p:spPr>
          <a:xfrm flipH="1">
            <a:off x="2276280" y="5654520"/>
            <a:ext cx="2665080" cy="1405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0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537120" y="1285920"/>
            <a:ext cx="45518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ex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를 실행 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2. 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을 실행 하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여기에서 아래 항목의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I accept the ~~~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를 선택 후 다음 버튼을 누르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22" name="Picture 13" descr=""/>
          <p:cNvPicPr/>
          <p:nvPr/>
        </p:nvPicPr>
        <p:blipFill>
          <a:blip r:embed="rId1"/>
          <a:stretch/>
        </p:blipFill>
        <p:spPr>
          <a:xfrm>
            <a:off x="1433520" y="2171880"/>
            <a:ext cx="3887640" cy="3130200"/>
          </a:xfrm>
          <a:prstGeom prst="rect">
            <a:avLst/>
          </a:prstGeom>
          <a:ln w="0">
            <a:noFill/>
          </a:ln>
        </p:spPr>
      </p:pic>
      <p:sp>
        <p:nvSpPr>
          <p:cNvPr id="223" name="Line 14"/>
          <p:cNvSpPr/>
          <p:nvPr/>
        </p:nvSpPr>
        <p:spPr>
          <a:xfrm flipH="1">
            <a:off x="1916280" y="2066760"/>
            <a:ext cx="217440" cy="2589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3789360" y="2066760"/>
            <a:ext cx="287280" cy="2980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912960" y="5362560"/>
            <a:ext cx="41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3. 2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을 항목을 실행 하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여기에서 특이 사항이 아니면 기본적으로 설정되어 있는 경로로 프로그램을 설치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경로가 맞으면 다음 버튼을 누르세요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26" name="Picture 18" descr=""/>
          <p:cNvPicPr/>
          <p:nvPr/>
        </p:nvPicPr>
        <p:blipFill>
          <a:blip r:embed="rId2"/>
          <a:stretch/>
        </p:blipFill>
        <p:spPr>
          <a:xfrm>
            <a:off x="1417680" y="6067440"/>
            <a:ext cx="3882960" cy="3124080"/>
          </a:xfrm>
          <a:prstGeom prst="rect">
            <a:avLst/>
          </a:prstGeom>
          <a:ln w="0">
            <a:noFill/>
          </a:ln>
        </p:spPr>
      </p:pic>
      <p:sp>
        <p:nvSpPr>
          <p:cNvPr id="227" name="Line 19"/>
          <p:cNvSpPr/>
          <p:nvPr/>
        </p:nvSpPr>
        <p:spPr>
          <a:xfrm flipH="1">
            <a:off x="2781360" y="5654520"/>
            <a:ext cx="433440" cy="1638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1557360" y="5967360"/>
            <a:ext cx="2448000" cy="2965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9" name=""/>
          <p:cNvSpPr/>
          <p:nvPr/>
        </p:nvSpPr>
        <p:spPr>
          <a:xfrm>
            <a:off x="168480" y="723960"/>
            <a:ext cx="18183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치하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689760" y="1338120"/>
            <a:ext cx="3567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4. 3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여기에서 아래 항목의 체크 사항을  해제 시킨 후 마침 버튼을 누르세요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397160" y="1874880"/>
            <a:ext cx="3779640" cy="3043080"/>
          </a:xfrm>
          <a:prstGeom prst="rect">
            <a:avLst/>
          </a:prstGeom>
          <a:ln w="0">
            <a:noFill/>
          </a:ln>
        </p:spPr>
      </p:pic>
      <p:sp>
        <p:nvSpPr>
          <p:cNvPr id="232" name="Oval 5"/>
          <p:cNvSpPr/>
          <p:nvPr/>
        </p:nvSpPr>
        <p:spPr>
          <a:xfrm>
            <a:off x="1474920" y="3216240"/>
            <a:ext cx="360360" cy="390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28640" y="1754280"/>
            <a:ext cx="287640" cy="1482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4" name="Line 7"/>
          <p:cNvSpPr/>
          <p:nvPr/>
        </p:nvSpPr>
        <p:spPr>
          <a:xfrm flipH="1" flipV="1">
            <a:off x="3499920" y="1753920"/>
            <a:ext cx="505080" cy="28875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850680" y="5032440"/>
            <a:ext cx="44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위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까지 실행을 한 후 프린터 전원 또는 케이블을 연결하면 새 하드웨어 검색을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6" name=""/>
          <p:cNvSpPr/>
          <p:nvPr/>
        </p:nvSpPr>
        <p:spPr>
          <a:xfrm>
            <a:off x="168480" y="723960"/>
            <a:ext cx="18183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치하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428840" y="5402160"/>
            <a:ext cx="3305160" cy="847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359000" y="6527880"/>
            <a:ext cx="40050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8"/>
          <p:cNvSpPr/>
          <p:nvPr/>
        </p:nvSpPr>
        <p:spPr>
          <a:xfrm>
            <a:off x="941040" y="5359320"/>
            <a:ext cx="4340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7. 6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에서 위와 같이 선택 후 다음을 누르면 파일을 복사 한 후 마침을 누르시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40" name=""/>
          <p:cNvSpPr/>
          <p:nvPr/>
        </p:nvSpPr>
        <p:spPr>
          <a:xfrm>
            <a:off x="168480" y="673200"/>
            <a:ext cx="18183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치하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58800" y="1308240"/>
            <a:ext cx="546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6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하드웨어 검색 이 끝나면 아래와 같은 화면 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Driver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위치를 물을 것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이때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Driver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C/Seagull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을 찾으시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93680" y="1903320"/>
            <a:ext cx="4721400" cy="3094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133640" y="5865840"/>
            <a:ext cx="4635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45" name=""/>
          <p:cNvSpPr/>
          <p:nvPr/>
        </p:nvSpPr>
        <p:spPr>
          <a:xfrm>
            <a:off x="473760" y="1265400"/>
            <a:ext cx="374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윈도우 시작 제어판 에서 프린터 및 팩스 에서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zebra LP 2844 – z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속성 클릭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3640" y="1803240"/>
            <a:ext cx="3565440" cy="3119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763640" y="5416560"/>
            <a:ext cx="3548160" cy="3092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78640" y="5087880"/>
            <a:ext cx="188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일반 탭 선택 후 인쇄 기본설정 클릭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49" name=""/>
          <p:cNvSpPr/>
          <p:nvPr/>
        </p:nvSpPr>
        <p:spPr>
          <a:xfrm>
            <a:off x="1133640" y="5267160"/>
            <a:ext cx="2025360" cy="252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51" name=""/>
          <p:cNvSpPr/>
          <p:nvPr/>
        </p:nvSpPr>
        <p:spPr>
          <a:xfrm>
            <a:off x="151560" y="1265400"/>
            <a:ext cx="176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페이지 설정 에서 새 글꼴 클릭 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866" t="1036" r="0" b="0"/>
          <a:stretch/>
        </p:blipFill>
        <p:spPr>
          <a:xfrm>
            <a:off x="1854360" y="2117880"/>
            <a:ext cx="3270240" cy="2838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94000" y="1531800"/>
            <a:ext cx="1170000" cy="1306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54" name=""/>
          <p:cNvSpPr/>
          <p:nvPr/>
        </p:nvSpPr>
        <p:spPr>
          <a:xfrm>
            <a:off x="345240" y="5627520"/>
            <a:ext cx="192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4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라벨 용지에 따라  너비 및 높이 설정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8640" y="6032520"/>
            <a:ext cx="3421080" cy="20318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42920" y="5897520"/>
            <a:ext cx="1486080" cy="76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57" name=""/>
          <p:cNvSpPr/>
          <p:nvPr/>
        </p:nvSpPr>
        <p:spPr>
          <a:xfrm>
            <a:off x="907920" y="8238960"/>
            <a:ext cx="432144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a.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전용라벨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A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용지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이름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datamax2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너비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107.1,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높이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168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b.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전용라벨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B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용지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이름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labelb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너비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107.1,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높이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271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59" name=""/>
          <p:cNvSpPr/>
          <p:nvPr/>
        </p:nvSpPr>
        <p:spPr>
          <a:xfrm>
            <a:off x="428760" y="1265400"/>
            <a:ext cx="250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5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편집 탭 설정 후 확인 방향 은 가로 선택 고급 클릭  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60" name=""/>
          <p:cNvSpPr/>
          <p:nvPr/>
        </p:nvSpPr>
        <p:spPr>
          <a:xfrm>
            <a:off x="77400" y="6078600"/>
            <a:ext cx="162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6. 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가로 오프 셋 기본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-1.0 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선택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49360" y="6527880"/>
            <a:ext cx="4438800" cy="2685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73280" y="7067520"/>
            <a:ext cx="1846080" cy="405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3640" y="1622520"/>
            <a:ext cx="5047920" cy="4333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03640" y="3422520"/>
            <a:ext cx="765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65" name=""/>
          <p:cNvSpPr/>
          <p:nvPr/>
        </p:nvSpPr>
        <p:spPr>
          <a:xfrm>
            <a:off x="1403280" y="4727520"/>
            <a:ext cx="1486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66" name=""/>
          <p:cNvSpPr/>
          <p:nvPr/>
        </p:nvSpPr>
        <p:spPr>
          <a:xfrm>
            <a:off x="2079720" y="1531800"/>
            <a:ext cx="0" cy="2837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8880" y="1996920"/>
            <a:ext cx="9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목     차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64" name=""/>
          <p:cNvSpPr/>
          <p:nvPr/>
        </p:nvSpPr>
        <p:spPr>
          <a:xfrm>
            <a:off x="1707120" y="3567240"/>
            <a:ext cx="318204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</a:t>
            </a:r>
            <a:r>
              <a:rPr b="0" lang="zh-CN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설치             </a:t>
            </a: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------------------------------   3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위별 명칭              </a:t>
            </a: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------------------------------   4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SELF TEST             ------------------------------   5,6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Troubleshooting       -----------------------------   7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드라이버 설정            </a:t>
            </a: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-----------------------------   8 ~ 21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808280" y="1892160"/>
            <a:ext cx="3539880" cy="3084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69" name=""/>
          <p:cNvSpPr/>
          <p:nvPr/>
        </p:nvSpPr>
        <p:spPr>
          <a:xfrm>
            <a:off x="196200" y="126540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7.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용지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매체 설정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비연속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웹 검색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)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선택  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0" name=""/>
          <p:cNvSpPr/>
          <p:nvPr/>
        </p:nvSpPr>
        <p:spPr>
          <a:xfrm>
            <a:off x="1943280" y="1531800"/>
            <a:ext cx="76500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808280" y="5934240"/>
            <a:ext cx="3510000" cy="3068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30000" y="5448240"/>
            <a:ext cx="4579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8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옵션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어두움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현재 프린터 설정 사용 체크 풀어 줌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절대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진하기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9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로 설정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속도설정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현재프린터 설정 사용 체크 풀어 줌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인쇄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101.60mm/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초 선택 후 적용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확인 클릭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3" name=""/>
          <p:cNvSpPr/>
          <p:nvPr/>
        </p:nvSpPr>
        <p:spPr>
          <a:xfrm>
            <a:off x="1898640" y="6392880"/>
            <a:ext cx="1079640" cy="270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4" name=""/>
          <p:cNvSpPr/>
          <p:nvPr/>
        </p:nvSpPr>
        <p:spPr>
          <a:xfrm>
            <a:off x="3924360" y="6302520"/>
            <a:ext cx="449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6573960"/>
            <a:ext cx="179280" cy="17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6" name=""/>
          <p:cNvSpPr/>
          <p:nvPr/>
        </p:nvSpPr>
        <p:spPr>
          <a:xfrm>
            <a:off x="1943280" y="6978600"/>
            <a:ext cx="1125360" cy="270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7" name=""/>
          <p:cNvSpPr/>
          <p:nvPr/>
        </p:nvSpPr>
        <p:spPr>
          <a:xfrm>
            <a:off x="1943280" y="7338960"/>
            <a:ext cx="189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8" name=""/>
          <p:cNvSpPr/>
          <p:nvPr/>
        </p:nvSpPr>
        <p:spPr>
          <a:xfrm>
            <a:off x="2708280" y="8688240"/>
            <a:ext cx="6764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9" name=""/>
          <p:cNvSpPr/>
          <p:nvPr/>
        </p:nvSpPr>
        <p:spPr>
          <a:xfrm>
            <a:off x="4059360" y="8688240"/>
            <a:ext cx="63000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673280" y="2027160"/>
            <a:ext cx="3668760" cy="3187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70640" y="1490760"/>
            <a:ext cx="181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9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도구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구성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구성 선택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719360" y="6392880"/>
            <a:ext cx="3666960" cy="1609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6520" y="5853240"/>
            <a:ext cx="300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0. Power up / head close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를 용지공급 설정 후 확인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85" name=""/>
          <p:cNvSpPr/>
          <p:nvPr/>
        </p:nvSpPr>
        <p:spPr>
          <a:xfrm>
            <a:off x="8640" y="8578800"/>
            <a:ext cx="102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1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설정 완료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86" name=""/>
          <p:cNvSpPr/>
          <p:nvPr/>
        </p:nvSpPr>
        <p:spPr>
          <a:xfrm>
            <a:off x="1824480" y="8958240"/>
            <a:ext cx="3466080" cy="307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휴먼새내기체"/>
                <a:ea typeface="휴먼새내기체"/>
              </a:rPr>
              <a:t>주의 프린터 드라이버는 기본 프린터로 잡아 주어야  합니다</a:t>
            </a:r>
            <a:r>
              <a:rPr b="1" lang="en-US" sz="1400" spc="-1" strike="noStrike">
                <a:solidFill>
                  <a:srgbClr val="ffffff"/>
                </a:solidFill>
                <a:latin typeface="휴먼새내기체"/>
                <a:ea typeface="휴먼새내기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080" y="677880"/>
            <a:ext cx="131256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설치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55800" y="1847880"/>
            <a:ext cx="1106280" cy="126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60440" y="1442880"/>
            <a:ext cx="225360" cy="2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43040" y="1847880"/>
            <a:ext cx="1200240" cy="12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08160" y="1487520"/>
            <a:ext cx="22572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rcRect l="5596" t="3593" r="1928" b="1604"/>
          <a:stretch/>
        </p:blipFill>
        <p:spPr>
          <a:xfrm>
            <a:off x="3743280" y="1847880"/>
            <a:ext cx="2205000" cy="121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22920" y="148752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955800" y="4740120"/>
            <a:ext cx="1079280" cy="1216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60440" y="442584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4" name=""/>
          <p:cNvSpPr/>
          <p:nvPr/>
        </p:nvSpPr>
        <p:spPr>
          <a:xfrm>
            <a:off x="434880" y="2612880"/>
            <a:ext cx="638280" cy="719280"/>
          </a:xfrm>
          <a:prstGeom prst="wedgeRoundRectCallout">
            <a:avLst>
              <a:gd name="adj1" fmla="val 79351"/>
              <a:gd name="adj2" fmla="val -43819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5" name=""/>
          <p:cNvSpPr/>
          <p:nvPr/>
        </p:nvSpPr>
        <p:spPr>
          <a:xfrm>
            <a:off x="290880" y="2751120"/>
            <a:ext cx="790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FF 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로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되어있나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확인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6" name=""/>
          <p:cNvSpPr/>
          <p:nvPr/>
        </p:nvSpPr>
        <p:spPr>
          <a:xfrm>
            <a:off x="5229360" y="1308240"/>
            <a:ext cx="1260360" cy="360360"/>
          </a:xfrm>
          <a:prstGeom prst="wedgeRoundRectCallout">
            <a:avLst>
              <a:gd name="adj1" fmla="val -38916"/>
              <a:gd name="adj2" fmla="val 224888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PC </a:t>
            </a:r>
            <a:r>
              <a:rPr b="1" lang="zh-CN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와 케이블</a:t>
            </a:r>
            <a:r>
              <a:rPr b="1" lang="en-US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/</a:t>
            </a:r>
            <a:r>
              <a:rPr b="1" lang="zh-CN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전원 을</a:t>
            </a:r>
            <a:endParaRPr b="0" lang="en-US" sz="8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연결 합니다</a:t>
            </a:r>
            <a:r>
              <a:rPr b="1" lang="en-US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5960" y="5905440"/>
            <a:ext cx="1731960" cy="249120"/>
          </a:xfrm>
          <a:prstGeom prst="wedgeRoundRectCallout">
            <a:avLst>
              <a:gd name="adj1" fmla="val 2407"/>
              <a:gd name="adj2" fmla="val -276981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레버를 당겨 커버를오픈 합니다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8" name=""/>
          <p:cNvSpPr/>
          <p:nvPr/>
        </p:nvSpPr>
        <p:spPr>
          <a:xfrm>
            <a:off x="3024360" y="442584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523960" y="4740120"/>
            <a:ext cx="1200240" cy="147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73280" y="7653240"/>
            <a:ext cx="1276200" cy="137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24200" y="3976560"/>
            <a:ext cx="765000" cy="944640"/>
          </a:xfrm>
          <a:prstGeom prst="wedgeRoundRectCallout">
            <a:avLst>
              <a:gd name="adj1" fmla="val 74481"/>
              <a:gd name="adj2" fmla="val 8680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2" name=""/>
          <p:cNvSpPr/>
          <p:nvPr/>
        </p:nvSpPr>
        <p:spPr>
          <a:xfrm>
            <a:off x="1854360" y="3998880"/>
            <a:ext cx="9000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의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헤드가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손상 되지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않도록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주의 하십시요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3" name=""/>
          <p:cNvSpPr/>
          <p:nvPr/>
        </p:nvSpPr>
        <p:spPr>
          <a:xfrm>
            <a:off x="4822920" y="442584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4" name=""/>
          <p:cNvSpPr/>
          <p:nvPr/>
        </p:nvSpPr>
        <p:spPr>
          <a:xfrm>
            <a:off x="714960" y="9013680"/>
            <a:ext cx="134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장비 뒤쪽에 용지를 삽입 합니다</a:t>
            </a:r>
            <a:endParaRPr b="0" lang="en-US" sz="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4059360" y="4740120"/>
            <a:ext cx="1539720" cy="1020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03640" y="5821200"/>
            <a:ext cx="1620720" cy="360360"/>
          </a:xfrm>
          <a:prstGeom prst="wedgeRoundRectCallout">
            <a:avLst>
              <a:gd name="adj1" fmla="val -27277"/>
              <a:gd name="adj2" fmla="val -269384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가이드를 최대한 넓게 조정 합니다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7" name=""/>
          <p:cNvSpPr/>
          <p:nvPr/>
        </p:nvSpPr>
        <p:spPr>
          <a:xfrm>
            <a:off x="1359000" y="693252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8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9" name=""/>
          <p:cNvSpPr/>
          <p:nvPr/>
        </p:nvSpPr>
        <p:spPr>
          <a:xfrm>
            <a:off x="279360" y="387360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90" name=""/>
          <p:cNvSpPr/>
          <p:nvPr/>
        </p:nvSpPr>
        <p:spPr>
          <a:xfrm>
            <a:off x="279360" y="66819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476440" y="7562880"/>
            <a:ext cx="1312920" cy="139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12920" y="6932520"/>
            <a:ext cx="22572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93" name=""/>
          <p:cNvSpPr/>
          <p:nvPr/>
        </p:nvSpPr>
        <p:spPr>
          <a:xfrm>
            <a:off x="2501640" y="8999640"/>
            <a:ext cx="202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가이드 조정 레버로 용지의 폭 만큼 조정 합니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4464000" y="7473960"/>
            <a:ext cx="944640" cy="1258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08640" y="7653240"/>
            <a:ext cx="1170000" cy="541440"/>
          </a:xfrm>
          <a:prstGeom prst="wedgeRoundRectCallout">
            <a:avLst>
              <a:gd name="adj1" fmla="val -70625"/>
              <a:gd name="adj2" fmla="val 79912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딱 소리가 나도록 커버를 닫습니다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96" name=""/>
          <p:cNvSpPr/>
          <p:nvPr/>
        </p:nvSpPr>
        <p:spPr>
          <a:xfrm>
            <a:off x="4869000" y="693252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600" y="677880"/>
            <a:ext cx="126684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위별 명칭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49360" y="3467160"/>
            <a:ext cx="3962520" cy="4276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00" name=""/>
          <p:cNvSpPr/>
          <p:nvPr/>
        </p:nvSpPr>
        <p:spPr>
          <a:xfrm>
            <a:off x="1524600" y="3881520"/>
            <a:ext cx="14101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TLP 2844Z SERIES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01" name=""/>
          <p:cNvSpPr/>
          <p:nvPr/>
        </p:nvSpPr>
        <p:spPr>
          <a:xfrm>
            <a:off x="4104720" y="5041800"/>
            <a:ext cx="97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LP 2844Z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03" name=""/>
          <p:cNvSpPr/>
          <p:nvPr/>
        </p:nvSpPr>
        <p:spPr>
          <a:xfrm>
            <a:off x="-34200" y="677880"/>
            <a:ext cx="153828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. SELF TEST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04" name=""/>
          <p:cNvSpPr/>
          <p:nvPr/>
        </p:nvSpPr>
        <p:spPr>
          <a:xfrm>
            <a:off x="417600" y="1262160"/>
            <a:ext cx="235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1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장비 셋팅 값 출력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2558" t="0" r="0" b="0"/>
          <a:stretch/>
        </p:blipFill>
        <p:spPr>
          <a:xfrm>
            <a:off x="593640" y="171288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2280" y="279252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22641" t="0" r="0" b="0"/>
          <a:stretch/>
        </p:blipFill>
        <p:spPr>
          <a:xfrm>
            <a:off x="2843280" y="171288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202716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33967" t="27579" r="46829" b="46811"/>
          <a:stretch/>
        </p:blipFill>
        <p:spPr>
          <a:xfrm>
            <a:off x="4149720" y="238752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14720" y="202716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11" name=""/>
          <p:cNvSpPr/>
          <p:nvPr/>
        </p:nvSpPr>
        <p:spPr>
          <a:xfrm>
            <a:off x="3958920" y="292428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rcRect l="22523" t="0" r="0" b="0"/>
          <a:stretch/>
        </p:blipFill>
        <p:spPr>
          <a:xfrm>
            <a:off x="5184720" y="1712880"/>
            <a:ext cx="1081080" cy="1046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9360" y="315288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14" name=""/>
          <p:cNvSpPr/>
          <p:nvPr/>
        </p:nvSpPr>
        <p:spPr>
          <a:xfrm>
            <a:off x="461880" y="3243240"/>
            <a:ext cx="248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2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용지 인식 그래프 출력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rcRect l="22558" t="0" r="0" b="0"/>
          <a:stretch/>
        </p:blipFill>
        <p:spPr>
          <a:xfrm>
            <a:off x="593640" y="37879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2280" y="48672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rcRect l="22641" t="0" r="0" b="0"/>
          <a:stretch/>
        </p:blipFill>
        <p:spPr>
          <a:xfrm>
            <a:off x="2843280" y="37879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63640" y="41022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7"/>
          <a:srcRect l="33967" t="27579" r="46829" b="46811"/>
          <a:stretch/>
        </p:blipFill>
        <p:spPr>
          <a:xfrm>
            <a:off x="4149720" y="44625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14720" y="41022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21" name=""/>
          <p:cNvSpPr/>
          <p:nvPr/>
        </p:nvSpPr>
        <p:spPr>
          <a:xfrm>
            <a:off x="3958920" y="504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229360" y="3787920"/>
            <a:ext cx="1079280" cy="103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9360" y="52671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24" name=""/>
          <p:cNvSpPr/>
          <p:nvPr/>
        </p:nvSpPr>
        <p:spPr>
          <a:xfrm>
            <a:off x="565920" y="5354640"/>
            <a:ext cx="229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3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통신설정 초기화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9"/>
          <a:srcRect l="22558" t="0" r="0" b="0"/>
          <a:stretch/>
        </p:blipFill>
        <p:spPr>
          <a:xfrm>
            <a:off x="593640" y="58993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2280" y="69786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0"/>
          <a:srcRect l="22641" t="0" r="0" b="0"/>
          <a:stretch/>
        </p:blipFill>
        <p:spPr>
          <a:xfrm>
            <a:off x="2843280" y="58993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63640" y="621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1"/>
          <a:srcRect l="33967" t="27579" r="46829" b="46811"/>
          <a:stretch/>
        </p:blipFill>
        <p:spPr>
          <a:xfrm>
            <a:off x="4149720" y="65739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014720" y="621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31" name=""/>
          <p:cNvSpPr/>
          <p:nvPr/>
        </p:nvSpPr>
        <p:spPr>
          <a:xfrm>
            <a:off x="3958920" y="711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32" name=""/>
          <p:cNvSpPr/>
          <p:nvPr/>
        </p:nvSpPr>
        <p:spPr>
          <a:xfrm>
            <a:off x="279360" y="73389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33" name=""/>
          <p:cNvSpPr/>
          <p:nvPr/>
        </p:nvSpPr>
        <p:spPr>
          <a:xfrm>
            <a:off x="640440" y="7424640"/>
            <a:ext cx="275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4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공장 초기화 및 자동 라벨 인식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2"/>
          <a:srcRect l="22558" t="0" r="0" b="0"/>
          <a:stretch/>
        </p:blipFill>
        <p:spPr>
          <a:xfrm>
            <a:off x="593640" y="79693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2280" y="90486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3"/>
          <a:srcRect l="22641" t="0" r="0" b="0"/>
          <a:stretch/>
        </p:blipFill>
        <p:spPr>
          <a:xfrm>
            <a:off x="2843280" y="79693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63640" y="828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4"/>
          <a:srcRect l="33967" t="27579" r="46829" b="46811"/>
          <a:stretch/>
        </p:blipFill>
        <p:spPr>
          <a:xfrm>
            <a:off x="4149720" y="86439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14720" y="828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4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0" name=""/>
          <p:cNvSpPr/>
          <p:nvPr/>
        </p:nvSpPr>
        <p:spPr>
          <a:xfrm>
            <a:off x="3958920" y="918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1" name=""/>
          <p:cNvSpPr/>
          <p:nvPr/>
        </p:nvSpPr>
        <p:spPr>
          <a:xfrm>
            <a:off x="5324760" y="6167520"/>
            <a:ext cx="988200" cy="38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통신설정 초기화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아무런 동작 없음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8283600"/>
            <a:ext cx="1262160" cy="38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공장 초기화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라벨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 ~ 3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장 배출 됨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4" name=""/>
          <p:cNvSpPr/>
          <p:nvPr/>
        </p:nvSpPr>
        <p:spPr>
          <a:xfrm>
            <a:off x="-46800" y="677880"/>
            <a:ext cx="153828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. SELF TEST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5" name=""/>
          <p:cNvSpPr/>
          <p:nvPr/>
        </p:nvSpPr>
        <p:spPr>
          <a:xfrm>
            <a:off x="504720" y="1262160"/>
            <a:ext cx="218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5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인쇄 폭 설정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2558" t="0" r="0" b="0"/>
          <a:stretch/>
        </p:blipFill>
        <p:spPr>
          <a:xfrm>
            <a:off x="593640" y="171288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2280" y="279252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22641" t="0" r="0" b="0"/>
          <a:stretch/>
        </p:blipFill>
        <p:spPr>
          <a:xfrm>
            <a:off x="2843280" y="171288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63640" y="202716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rcRect l="33967" t="27579" r="46829" b="46811"/>
          <a:stretch/>
        </p:blipFill>
        <p:spPr>
          <a:xfrm>
            <a:off x="4149720" y="238752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14720" y="202716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5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52" name=""/>
          <p:cNvSpPr/>
          <p:nvPr/>
        </p:nvSpPr>
        <p:spPr>
          <a:xfrm>
            <a:off x="3958920" y="292428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53" name=""/>
          <p:cNvSpPr/>
          <p:nvPr/>
        </p:nvSpPr>
        <p:spPr>
          <a:xfrm>
            <a:off x="279360" y="315288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54" name=""/>
          <p:cNvSpPr/>
          <p:nvPr/>
        </p:nvSpPr>
        <p:spPr>
          <a:xfrm>
            <a:off x="621360" y="3243240"/>
            <a:ext cx="305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6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HEAD TEST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및 인쇄 진하기 설정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rcRect l="22558" t="0" r="0" b="0"/>
          <a:stretch/>
        </p:blipFill>
        <p:spPr>
          <a:xfrm>
            <a:off x="593640" y="37879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2280" y="48672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rcRect l="22641" t="0" r="0" b="0"/>
          <a:stretch/>
        </p:blipFill>
        <p:spPr>
          <a:xfrm>
            <a:off x="2843280" y="37879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63640" y="41022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rcRect l="33967" t="27579" r="46829" b="46811"/>
          <a:stretch/>
        </p:blipFill>
        <p:spPr>
          <a:xfrm>
            <a:off x="4149720" y="44625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14720" y="41022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6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61" name=""/>
          <p:cNvSpPr/>
          <p:nvPr/>
        </p:nvSpPr>
        <p:spPr>
          <a:xfrm>
            <a:off x="3958920" y="504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62" name=""/>
          <p:cNvSpPr/>
          <p:nvPr/>
        </p:nvSpPr>
        <p:spPr>
          <a:xfrm>
            <a:off x="279360" y="52671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63" name=""/>
          <p:cNvSpPr/>
          <p:nvPr/>
        </p:nvSpPr>
        <p:spPr>
          <a:xfrm>
            <a:off x="469800" y="5354640"/>
            <a:ext cx="24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7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SELF TEST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취소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rcRect l="22558" t="0" r="0" b="0"/>
          <a:stretch/>
        </p:blipFill>
        <p:spPr>
          <a:xfrm>
            <a:off x="593640" y="58993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2280" y="69786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rcRect l="22641" t="0" r="0" b="0"/>
          <a:stretch/>
        </p:blipFill>
        <p:spPr>
          <a:xfrm>
            <a:off x="2843280" y="58993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63640" y="621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9"/>
          <a:srcRect l="33967" t="27579" r="46829" b="46811"/>
          <a:stretch/>
        </p:blipFill>
        <p:spPr>
          <a:xfrm>
            <a:off x="4149720" y="65739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14720" y="621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7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70" name=""/>
          <p:cNvSpPr/>
          <p:nvPr/>
        </p:nvSpPr>
        <p:spPr>
          <a:xfrm>
            <a:off x="3958920" y="711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71" name=""/>
          <p:cNvSpPr/>
          <p:nvPr/>
        </p:nvSpPr>
        <p:spPr>
          <a:xfrm>
            <a:off x="279360" y="73389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72" name=""/>
          <p:cNvSpPr/>
          <p:nvPr/>
        </p:nvSpPr>
        <p:spPr>
          <a:xfrm>
            <a:off x="5324760" y="6167520"/>
            <a:ext cx="988200" cy="23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아무런 동작 없음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5227560" y="1712880"/>
            <a:ext cx="108108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5227560" y="3782880"/>
            <a:ext cx="1081080" cy="1035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78840" y="8148600"/>
            <a:ext cx="50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&lt;&lt; LED 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점등 순서는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, 1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, 1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, …….. 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순서로 진행 됩니다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080" y="677880"/>
            <a:ext cx="131256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4. </a:t>
            </a:r>
            <a:r>
              <a:rPr b="1" lang="ko-KR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장애 대처법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77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68280" y="1577880"/>
          <a:ext cx="6154920" cy="2711520"/>
        </p:xfrm>
        <a:graphic>
          <a:graphicData uri="http://schemas.openxmlformats.org/drawingml/2006/table">
            <a:tbl>
              <a:tblPr/>
              <a:tblGrid>
                <a:gridCol w="947880"/>
                <a:gridCol w="1062000"/>
                <a:gridCol w="41450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LED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상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프린터 상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대처 방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전원 케이블이 정상적인가 확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아답터의 불량 체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녹색점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정상동작 상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주황색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동작 멈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장비의 에러 상태 유지보수 담당자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C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메모리 부족 현상 프린터의 전원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OFF -&gt; 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녹색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평상 동작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데이터 수신 중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적색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동작 멈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LABEL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없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프린터 커버 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(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딸깍 소리 확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녹색 두번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잠시멈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FEED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버튼 누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주황색 점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VARIO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헤드의 온도 낮음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주위온도 확인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헤드의 온도 높음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장비의 휴유 상태 유지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녹색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/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적색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멈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플레쉬 메모리 에러 및 다운 모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03640" y="1600200"/>
            <a:ext cx="36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통합 드라이버 설정 방법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805760" y="3319560"/>
            <a:ext cx="33602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 하기</a:t>
            </a: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치 하기</a:t>
            </a: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속성 설정 하기</a:t>
            </a: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303120" y="1285920"/>
            <a:ext cx="60786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다음은 웹사이트에 접속해  프린터 드라이버 다운로드를 하는 방법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1" lang="ko-KR" sz="1100" spc="-1" strike="noStrike">
                <a:solidFill>
                  <a:srgbClr val="0000cc"/>
                </a:solidFill>
                <a:latin typeface="굴림"/>
                <a:ea typeface="굴림"/>
              </a:rPr>
              <a:t>http://www.seagullscientific.com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에 접속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다음과 같은 홈페이지가 나오면                         버튼을 누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549360" y="2378160"/>
            <a:ext cx="5616360" cy="459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2"/>
          <a:stretch/>
        </p:blipFill>
        <p:spPr>
          <a:xfrm>
            <a:off x="2449440" y="2001960"/>
            <a:ext cx="866880" cy="226800"/>
          </a:xfrm>
          <a:prstGeom prst="rect">
            <a:avLst/>
          </a:prstGeom>
          <a:ln w="0">
            <a:noFill/>
          </a:ln>
        </p:spPr>
      </p:pic>
      <p:sp>
        <p:nvSpPr>
          <p:cNvPr id="184" name="Line 10"/>
          <p:cNvSpPr/>
          <p:nvPr/>
        </p:nvSpPr>
        <p:spPr>
          <a:xfrm flipH="1">
            <a:off x="1844640" y="2222640"/>
            <a:ext cx="936720" cy="1716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85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03:15:33Z</dcterms:created>
  <dc:creator>Philip Cho</dc:creator>
  <dc:description/>
  <dc:language>en-US</dc:language>
  <cp:lastModifiedBy>KJM</cp:lastModifiedBy>
  <dcterms:modified xsi:type="dcterms:W3CDTF">2007-07-25T02:07:44Z</dcterms:modified>
  <cp:revision>1147</cp:revision>
  <dc:subject/>
  <dc:title>2007 우편업무용 프린터 도입 및 설치 사업</dc:title>
</cp:coreProperties>
</file>